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1C05-8639-43AE-B53C-C256F94E6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DA28-5A01-418E-B517-4FEABF36C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4224851-BF39-44C7-AB70-17B7DDB08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E0EF96E-1CF2-4082-9DC2-C2793A9AC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DEF4140-D720-4F4B-A756-223535EC9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3D6FB4F-70D3-4954-BE51-929AF91B1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453B0E1-8A56-4368-A61E-6289576BA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35798E6-F2D3-4DF7-B5D7-4D071BAAA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C29E667-928F-494B-A09D-0EEE544AE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78ED4E6-252E-42E5-9704-C8A5ADC65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D686748-FDEA-49A8-84C8-1AB372132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C3221D1-7C8E-4C1F-88F0-11286E1B3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D75E-C63D-4766-B862-AB688D674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5743224-D4AA-400A-8001-9C5714BED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96FCE62-AC6B-4446-91E0-ED45DFFF1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DD58EDE-CEE0-4DF8-9E68-6E2961E91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77802CC-D4EB-4829-8D4A-55CC2CC17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970BAC0-E37B-4946-A217-F1DB70156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D83E2A1-48CA-456A-B660-D4800159B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A2D31AB-CE0F-45F1-BB7C-4DA53B161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EB5D370-CDE7-4277-8B00-D74536BC9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13CB5FB-1CAA-4AA1-92AB-6232C509A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8DD922C-427F-4FFD-982E-B783E6F59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2991-0376-4490-B015-9718F0BDB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57E4C8D-221A-4B63-B1F8-E924DD210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71E9F5A-850B-432E-B938-F50080B5A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0F24681-0179-4E90-A587-A1C815C12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8031DC4-E14B-49E4-B1C9-98E88601B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4E2B743-B139-4FDF-9431-D9C54435E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26898A1-3A52-4202-89D3-437F6C7D8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0D3F3C0-2058-42F8-A527-7A9885ABC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149229A-485D-448B-9256-1EB89B1E0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8C7C78A-E867-492B-8463-0AC4117AF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B7D29DF-6FEE-4B06-BA4B-4E494FC75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2189E-7062-4F6E-BDFB-022154895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E65F6A5-7E3A-41C1-B3DC-B4955BE64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81FF45D-D96C-4EC9-990C-0563BB9BB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3C33A8E-50BA-473F-B201-36D9D45AF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4B57892-E210-477D-955F-056D2F94C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A5EA532-6D00-42A1-9A0A-7828D76A4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5AAED02-32FF-41A6-A9D9-DE3E716C8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D6FF760-9624-4694-8EA0-BB4C56C2A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5887351-2AC1-4817-AE27-84FA1F177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E413353-1CC7-4817-BBB3-03F244C96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7DBCF6B-B6D1-45AC-AECE-B4579CD57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42005-6FE9-4C20-9A62-5CB0285E7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EF9A9A9-7090-4402-AC99-27AC7DE2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E08D79F-B8C5-43FD-A287-BC33F7870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FFFD10C-87D1-499F-B1C8-8A4247A30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1F28E05-89B7-42DF-BED6-39D1A33FB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CCFB443-999E-4B45-9509-75C806343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603D0A7-E39B-478D-B27B-F2490FE4D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934F2B2-7044-49E1-A9D5-DDC62338E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917F927-92EF-40FF-89AD-EBD9749FE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F3886E0-18A5-41FE-9F7D-8D68EAEE7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25EE0A4-1B5B-4CA6-842F-A0A605EE5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9BC2D-8522-466A-A189-B1A77C3B6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0B45A50-CA52-4BD0-A73D-5DD5FCFF4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2288104-A5D4-4F89-B528-FB8F1CC39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F857A69-61A1-4E6B-AA24-80D4D4C31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FAA1B85-37E3-4F4E-87DC-500E5772D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9FA5388-A454-40CF-B568-C0FD25076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0FE5A1D-A83C-4959-B3FA-3C9E753A8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32A6B57-D704-4F49-9DBE-5A36918C4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68A23BC-5850-4804-B5BE-43C56989D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3C5C502-06A1-4897-985E-AE12329D6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8D67FF4-995A-40BC-8E26-477D387AA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71CF4-3CC6-4832-83DB-6F094D235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41579C2-0277-4E38-8F31-FFA285367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AFD1AE2-A7A9-423D-BF0F-C35D2B8E0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312B143-E9A4-4222-8247-CCE2942EA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D1641CE-C801-4D0D-98FD-D44B6A409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1697D06-5A48-4B6D-B1CE-554FEFCD0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640A71B-7549-4EE7-9CDC-D7FDF7EF2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F817B07-D3C6-4755-9A07-89BB5B3CF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650DF0E-C576-4192-BA1E-A48F854DE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3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4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591E659-C4CA-4346-AB59-D9A4F9F36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080EE4A-EFCA-4614-8AD0-BD62382A3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792D5-DA2E-4150-A9AD-79491B6F1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4975988-2FB3-4D42-B63D-5B00564E9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DEF9B98-5C30-4DE0-822E-487DEFD53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D63F6AE-8EE8-460C-83C5-D61D80D71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61B02FD-3461-4C34-9050-66CF57DE1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94F4B91-6DD8-4D45-9518-0F9F35069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57D6B8F-C40B-441E-9E47-9FE4CF588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872A52E-9035-4B58-B80E-9C32D4BD7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C3DCD6A-4ABE-4781-BD6A-E1F2FFF0B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A2DE951-023F-497A-B2E7-4E6C169CF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582BA14-1AFB-4057-91DB-FBD29DB89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728B1-F4C0-4900-8F67-61364948E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1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2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9C0750E-8EF5-443E-95A3-CD7A682DF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9B37456-F71A-4A0E-BC5D-F3FD4E544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D9F80F7-2C6A-4522-B6B7-06A66B9BA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1B4E7B3-5D29-4EF9-8B7E-E91EE62A9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4EA0B3F-D7DB-49CB-8F61-FE49A23AD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171E035-5615-41F2-BB16-4998ACED4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F938EBA-5176-42FA-8E31-081B27A68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502842E-6928-4750-B7BF-7F16E0816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C0552B8-0FBC-4851-989D-65EFCDA05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52902C7-7472-411D-86CE-9E7662813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5EFDA-5D1D-451E-B35A-25FB913CF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AE8BFFF-DE91-4973-8AFC-9991B3DC7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BCD57B9-C861-4DDE-B1C0-13BA98B8A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42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43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E819098-05EC-4A36-AB8F-451ED00B0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942F-83D8-4EDD-89D3-0DACDF85E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1820A-3BD0-411F-86C8-FEDA70FF7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51CD5-0D91-475B-89C8-F6B21C830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2969E-606C-4EC9-A81E-AF6748F6B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43666-B991-4314-84CB-9458A995C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C7250-3E3C-4BCC-8D0E-AD994EF6B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AC519-D07E-426A-BE0F-81AD84085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E561D-A0E0-47AA-8F90-47AE23EE0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69673-7C3D-4B02-BBF5-41AE6D1DC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231EA-7BB6-4583-8D3D-807AFDEC8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F15A8-2D2E-47A3-AD93-62235FB47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3142-2989-47A2-8111-5F360B3EA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FDF06-A5FB-49F3-B4A3-C4014D677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DC576-3255-4004-8598-6E473AC21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3D0F3-8EEA-4CB2-A6B7-58E5D3246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1267F-5B8F-45F3-84CF-2FECA78BF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48246-A1A0-4C84-B39F-3287D51B5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98000-3E42-487B-92CD-3BF4772CE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18E4D-8672-434E-B56F-E8C5F03E8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51A3-B313-4DD4-84C0-43E1195CC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DC5750-4AA9-487F-B9E9-00DA0D5E7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87B2-FC88-4867-9702-D67AA0CF0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30668C-2EBC-4F42-A860-6562BCC1C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E5F270-EE7B-408A-96A4-893164CB5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560952-01CD-453F-9FD6-A5E94FD59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6937DA-A9D9-4A6D-92CD-C47686F8F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1F163F-F8A0-457A-9524-F88D6E9B9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19DAD1-E4F3-47CF-993D-95FD1A02C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1DBEF9-2E14-4689-950B-9E9DC56FD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57CC2D-E816-45DF-9FFC-8A89BCDD2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2B842A-A1AA-4A6E-9CA4-CFC82003F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027389-B239-46C6-84E1-500493079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3762-AF20-4A9F-BF2E-5A90A6824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B202CF-AEDF-4361-A24A-3AAA6F18C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830B02-4F6B-473E-9AB8-07F6E0677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4320B7-ED40-4C94-B91E-4FCE8F3AD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BAACCB-7415-465C-AA63-0039AA0BA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74954E-6E06-4C9C-A116-0AC04D231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95C658-486F-4158-B1C2-19D2A9975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993A4E-C13B-4620-91CF-33CE91C34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825B71-25B1-4E78-BAA1-53522FD7C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CB87CC-07B6-42AF-8B77-77B0F8D31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F2C73E-7F34-45C8-8784-99DDAF4F9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59A3-8A36-44BD-926D-744A112EA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290ADD-E7AC-444F-A718-FAF8E7302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152563-7BDB-4C24-97A9-DE446101E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6A0CFE-9F2B-484E-BD77-FF1FAFBFD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654495-9159-4A62-9D9C-545C1CC02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FABDE2-3B02-4EBD-985A-5AEFE7377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41D276-CD5D-44DD-BDA4-13EF9509B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4BEF3F-8BF8-4E77-84A6-C35912A96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205842-0DCB-45C7-9CF5-D3B4738A8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8EEBDE-9FC6-4401-9045-4A3070522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F29DC3-7CD8-4F39-877B-7F58FBE74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2A0B-9199-446C-8CCF-644B239A2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A0B8F7-9677-412C-BBB7-B0EA7BBD5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D710E1-9FFC-4C1D-A99C-05C8189B8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BDA270-7CD0-49D2-A4B2-0380F5570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C47855-3C76-488B-B690-2ED85A403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2E22A4-252A-4278-A774-DD517852C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7CA544A-B6C8-4F72-8C38-1C72ECAFC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0CAFE24-080F-480C-86EA-77A97EA45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B5C9C0B-79F1-4AA1-B30A-4EB8C0061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EE32DE6-1A2A-4E2A-AA71-60E7054E4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5E22C1D-597B-4574-AA37-078C84B32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6E1E-0CF4-457A-82B8-2E8F3FCA1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402EF08-AD33-4549-B74B-06275FE2B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4175F09-8166-45AE-8038-35F02B635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9B54625-298F-4640-903F-B72CD528D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C11B2ED-2245-442B-96B8-88F03E26E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4FF08E5-EA72-4A18-B887-2C28BA3E2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2A92F82-5134-4488-A96F-9D33A59BC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B5DAEB0-213A-4341-A00C-C6AA742EF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F0A0E1E-B004-4768-B53A-5BA232D44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EE6D617-259F-429F-90B1-0C698B865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552826E-D082-46BA-A261-C11D8F408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2D1CDA-84E1-46BA-AE52-251F2DABC2C7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5791C0-7100-4E83-8992-6FA2C4746C61}" type="slidenum">
              <a:rPr b="0" lang="en-US" sz="1200" spc="-1" strike="noStrike">
                <a:solidFill>
                  <a:srgbClr val="b0bcc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Group 33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grpSp>
          <p:nvGrpSpPr>
            <p:cNvPr id="415" name="Group 26"/>
            <p:cNvGrpSpPr/>
            <p:nvPr/>
          </p:nvGrpSpPr>
          <p:grpSpPr>
            <a:xfrm>
              <a:off x="182520" y="173160"/>
              <a:ext cx="8778960" cy="6511680"/>
              <a:chOff x="182520" y="173160"/>
              <a:chExt cx="8778960" cy="6511680"/>
            </a:xfrm>
          </p:grpSpPr>
          <p:pic>
            <p:nvPicPr>
              <p:cNvPr id="416" name="Picture 9" descr="PaperPanel-Base.jpg"/>
              <p:cNvPicPr/>
              <p:nvPr/>
            </p:nvPicPr>
            <p:blipFill>
              <a:blip r:embed="rId3"/>
              <a:stretch/>
            </p:blipFill>
            <p:spPr>
              <a:xfrm>
                <a:off x="182520" y="173160"/>
                <a:ext cx="8778960" cy="6511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17" name="Group 10"/>
              <p:cNvGrpSpPr/>
              <p:nvPr/>
            </p:nvGrpSpPr>
            <p:grpSpPr>
              <a:xfrm>
                <a:off x="378000" y="349560"/>
                <a:ext cx="8384760" cy="6146640"/>
                <a:chOff x="378000" y="349560"/>
                <a:chExt cx="8384760" cy="6146640"/>
              </a:xfrm>
            </p:grpSpPr>
            <p:sp>
              <p:nvSpPr>
                <p:cNvPr id="418" name="Rectangle 11"/>
                <p:cNvSpPr/>
                <p:nvPr/>
              </p:nvSpPr>
              <p:spPr>
                <a:xfrm>
                  <a:off x="378000" y="349560"/>
                  <a:ext cx="8384760" cy="6146640"/>
                </a:xfrm>
                <a:prstGeom prst="rect">
                  <a:avLst/>
                </a:prstGeom>
                <a:noFill/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sto MT"/>
                  </a:endParaRPr>
                </a:p>
              </p:txBody>
            </p:sp>
            <p:sp>
              <p:nvSpPr>
                <p:cNvPr id="419" name="Straight Connector 12"/>
                <p:cNvSpPr/>
                <p:nvPr/>
              </p:nvSpPr>
              <p:spPr>
                <a:xfrm>
                  <a:off x="378000" y="6281280"/>
                  <a:ext cx="8384760" cy="1440"/>
                </a:xfrm>
                <a:prstGeom prst="line">
                  <a:avLst/>
                </a:prstGeom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sto MT"/>
                  </a:endParaRPr>
                </a:p>
              </p:txBody>
            </p:sp>
          </p:grpSp>
        </p:grpSp>
        <p:sp>
          <p:nvSpPr>
            <p:cNvPr id="420" name="Rectangle 8"/>
            <p:cNvSpPr/>
            <p:nvPr/>
          </p:nvSpPr>
          <p:spPr>
            <a:xfrm rot="5400000">
              <a:off x="799560" y="3274200"/>
              <a:ext cx="6136920" cy="63720"/>
            </a:xfrm>
            <a:prstGeom prst="rect">
              <a:avLst/>
            </a:prstGeom>
            <a:solidFill>
              <a:srgbClr val="cbd2d5"/>
            </a:solidFill>
            <a:ln w="3240">
              <a:solidFill>
                <a:srgbClr val="d1d0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7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2955E2-85A3-47A2-9FA4-70D6D055EB1B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8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29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12E254-514C-4258-B434-F4B4B2CC7340}" type="slidenum">
              <a:rPr b="0" lang="en-US" sz="1200" spc="-1" strike="noStrike">
                <a:solidFill>
                  <a:srgbClr val="b0bcc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33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grpSp>
          <p:nvGrpSpPr>
            <p:cNvPr id="463" name="Group 26"/>
            <p:cNvGrpSpPr/>
            <p:nvPr/>
          </p:nvGrpSpPr>
          <p:grpSpPr>
            <a:xfrm>
              <a:off x="182520" y="173160"/>
              <a:ext cx="8778960" cy="6511680"/>
              <a:chOff x="182520" y="173160"/>
              <a:chExt cx="8778960" cy="6511680"/>
            </a:xfrm>
          </p:grpSpPr>
          <p:pic>
            <p:nvPicPr>
              <p:cNvPr id="464" name="Picture 9" descr="PaperPanel-Base.jpg"/>
              <p:cNvPicPr/>
              <p:nvPr/>
            </p:nvPicPr>
            <p:blipFill>
              <a:blip r:embed="rId3"/>
              <a:stretch/>
            </p:blipFill>
            <p:spPr>
              <a:xfrm>
                <a:off x="182520" y="173160"/>
                <a:ext cx="8778960" cy="6511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65" name="Group 10"/>
              <p:cNvGrpSpPr/>
              <p:nvPr/>
            </p:nvGrpSpPr>
            <p:grpSpPr>
              <a:xfrm>
                <a:off x="378000" y="349560"/>
                <a:ext cx="8384760" cy="6146640"/>
                <a:chOff x="378000" y="349560"/>
                <a:chExt cx="8384760" cy="6146640"/>
              </a:xfrm>
            </p:grpSpPr>
            <p:sp>
              <p:nvSpPr>
                <p:cNvPr id="466" name="Rectangle 11"/>
                <p:cNvSpPr/>
                <p:nvPr/>
              </p:nvSpPr>
              <p:spPr>
                <a:xfrm>
                  <a:off x="378000" y="349560"/>
                  <a:ext cx="8384760" cy="6146640"/>
                </a:xfrm>
                <a:prstGeom prst="rect">
                  <a:avLst/>
                </a:prstGeom>
                <a:noFill/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sto MT"/>
                  </a:endParaRPr>
                </a:p>
              </p:txBody>
            </p:sp>
            <p:sp>
              <p:nvSpPr>
                <p:cNvPr id="467" name="Straight Connector 12"/>
                <p:cNvSpPr/>
                <p:nvPr/>
              </p:nvSpPr>
              <p:spPr>
                <a:xfrm>
                  <a:off x="378000" y="6281280"/>
                  <a:ext cx="8384760" cy="1440"/>
                </a:xfrm>
                <a:prstGeom prst="line">
                  <a:avLst/>
                </a:prstGeom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sto MT"/>
                  </a:endParaRPr>
                </a:p>
              </p:txBody>
            </p:sp>
          </p:grpSp>
        </p:grpSp>
        <p:sp>
          <p:nvSpPr>
            <p:cNvPr id="468" name="Rectangle 8"/>
            <p:cNvSpPr/>
            <p:nvPr/>
          </p:nvSpPr>
          <p:spPr>
            <a:xfrm rot="5400000">
              <a:off x="799560" y="3274200"/>
              <a:ext cx="6136920" cy="63720"/>
            </a:xfrm>
            <a:prstGeom prst="rect">
              <a:avLst/>
            </a:prstGeom>
            <a:solidFill>
              <a:srgbClr val="cbd2d5"/>
            </a:solidFill>
            <a:ln w="3240">
              <a:solidFill>
                <a:srgbClr val="d1d0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sp>
        <p:nvSpPr>
          <p:cNvPr id="469" name="Rectangle 13"/>
          <p:cNvSpPr/>
          <p:nvPr/>
        </p:nvSpPr>
        <p:spPr>
          <a:xfrm rot="10800000">
            <a:off x="258840" y="1593000"/>
            <a:ext cx="3574800" cy="651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0" name="Rectangle 14"/>
          <p:cNvSpPr/>
          <p:nvPr/>
        </p:nvSpPr>
        <p:spPr>
          <a:xfrm rot="10800000">
            <a:off x="258840" y="1593000"/>
            <a:ext cx="3574800" cy="651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dt" idx="30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C4B64A-A6C2-4E9B-B783-355F702F18E1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31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 type="sldNum" idx="32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24015B-2572-4564-9FE0-E5C726EC0B42}" type="slidenum">
              <a:rPr b="0" lang="en-US" sz="1200" spc="-1" strike="noStrike">
                <a:solidFill>
                  <a:srgbClr val="b0bcc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Group 32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grpSp>
          <p:nvGrpSpPr>
            <p:cNvPr id="513" name="Group 26"/>
            <p:cNvGrpSpPr/>
            <p:nvPr/>
          </p:nvGrpSpPr>
          <p:grpSpPr>
            <a:xfrm>
              <a:off x="182520" y="173160"/>
              <a:ext cx="8778960" cy="6511680"/>
              <a:chOff x="182520" y="173160"/>
              <a:chExt cx="8778960" cy="6511680"/>
            </a:xfrm>
          </p:grpSpPr>
          <p:pic>
            <p:nvPicPr>
              <p:cNvPr id="514" name="Picture 9" descr="PaperPanel-Base.jpg"/>
              <p:cNvPicPr/>
              <p:nvPr/>
            </p:nvPicPr>
            <p:blipFill>
              <a:blip r:embed="rId3"/>
              <a:stretch/>
            </p:blipFill>
            <p:spPr>
              <a:xfrm>
                <a:off x="182520" y="173160"/>
                <a:ext cx="8778960" cy="6511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15" name="Group 10"/>
              <p:cNvGrpSpPr/>
              <p:nvPr/>
            </p:nvGrpSpPr>
            <p:grpSpPr>
              <a:xfrm>
                <a:off x="378000" y="349560"/>
                <a:ext cx="8384760" cy="6146640"/>
                <a:chOff x="378000" y="349560"/>
                <a:chExt cx="8384760" cy="6146640"/>
              </a:xfrm>
            </p:grpSpPr>
            <p:sp>
              <p:nvSpPr>
                <p:cNvPr id="516" name="Rectangle 11"/>
                <p:cNvSpPr/>
                <p:nvPr/>
              </p:nvSpPr>
              <p:spPr>
                <a:xfrm>
                  <a:off x="378000" y="349560"/>
                  <a:ext cx="8384760" cy="6146640"/>
                </a:xfrm>
                <a:prstGeom prst="rect">
                  <a:avLst/>
                </a:prstGeom>
                <a:noFill/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sto MT"/>
                  </a:endParaRPr>
                </a:p>
              </p:txBody>
            </p:sp>
            <p:sp>
              <p:nvSpPr>
                <p:cNvPr id="517" name="Straight Connector 12"/>
                <p:cNvSpPr/>
                <p:nvPr/>
              </p:nvSpPr>
              <p:spPr>
                <a:xfrm>
                  <a:off x="378000" y="6281280"/>
                  <a:ext cx="8384760" cy="1440"/>
                </a:xfrm>
                <a:prstGeom prst="line">
                  <a:avLst/>
                </a:prstGeom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sto MT"/>
                  </a:endParaRPr>
                </a:p>
              </p:txBody>
            </p:sp>
          </p:grpSp>
        </p:grpSp>
        <p:sp>
          <p:nvSpPr>
            <p:cNvPr id="518" name="Rectangle 8"/>
            <p:cNvSpPr/>
            <p:nvPr/>
          </p:nvSpPr>
          <p:spPr>
            <a:xfrm rot="5400000">
              <a:off x="799560" y="3274200"/>
              <a:ext cx="6136920" cy="63720"/>
            </a:xfrm>
            <a:prstGeom prst="rect">
              <a:avLst/>
            </a:prstGeom>
            <a:solidFill>
              <a:srgbClr val="cbd2d5"/>
            </a:solidFill>
            <a:ln w="3240">
              <a:solidFill>
                <a:srgbClr val="d1d0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3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FF31FE-CBAC-454A-BB12-2E17700FCBD2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4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5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5F6A08-DFAA-4793-A048-B36E2C1EFF64}" type="slidenum">
              <a:rPr b="0" lang="en-US" sz="1200" spc="-1" strike="noStrike">
                <a:solidFill>
                  <a:srgbClr val="b0bcc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0" name="Group 26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561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2" name="Group 10"/>
            <p:cNvGrpSpPr/>
            <p:nvPr/>
          </p:nvGrpSpPr>
          <p:grpSpPr>
            <a:xfrm>
              <a:off x="378000" y="349560"/>
              <a:ext cx="8384760" cy="6146640"/>
              <a:chOff x="378000" y="349560"/>
              <a:chExt cx="8384760" cy="6146640"/>
            </a:xfrm>
          </p:grpSpPr>
          <p:sp>
            <p:nvSpPr>
              <p:cNvPr id="563" name="Rectangle 9"/>
              <p:cNvSpPr/>
              <p:nvPr/>
            </p:nvSpPr>
            <p:spPr>
              <a:xfrm>
                <a:off x="378000" y="349560"/>
                <a:ext cx="8384760" cy="61466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564" name="Straight Connector 10"/>
              <p:cNvSpPr/>
              <p:nvPr/>
            </p:nvSpPr>
            <p:spPr>
              <a:xfrm>
                <a:off x="378000" y="6281280"/>
                <a:ext cx="838476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</p:grpSp>
      </p:grpSp>
      <p:sp>
        <p:nvSpPr>
          <p:cNvPr id="565" name="Rectangle 11"/>
          <p:cNvSpPr/>
          <p:nvPr/>
        </p:nvSpPr>
        <p:spPr>
          <a:xfrm>
            <a:off x="255600" y="4203720"/>
            <a:ext cx="8623440" cy="633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66" name="Rectangle 12"/>
          <p:cNvSpPr/>
          <p:nvPr/>
        </p:nvSpPr>
        <p:spPr>
          <a:xfrm>
            <a:off x="255600" y="4203720"/>
            <a:ext cx="8623440" cy="633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36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58F948-8B12-4AEB-98D7-4F9EE3829C73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37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38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0D82CF-94AE-49EA-B33B-8C6A8579D7DA}" type="slidenum">
              <a:rPr b="0" lang="en-US" sz="1200" spc="-1" strike="noStrike">
                <a:solidFill>
                  <a:srgbClr val="b0bcc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8" name="Group 19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609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10" name="Group 10"/>
            <p:cNvGrpSpPr/>
            <p:nvPr/>
          </p:nvGrpSpPr>
          <p:grpSpPr>
            <a:xfrm>
              <a:off x="378000" y="349560"/>
              <a:ext cx="8384760" cy="6146640"/>
              <a:chOff x="378000" y="349560"/>
              <a:chExt cx="8384760" cy="6146640"/>
            </a:xfrm>
          </p:grpSpPr>
          <p:sp>
            <p:nvSpPr>
              <p:cNvPr id="611" name="Rectangle 9"/>
              <p:cNvSpPr/>
              <p:nvPr/>
            </p:nvSpPr>
            <p:spPr>
              <a:xfrm>
                <a:off x="378000" y="349560"/>
                <a:ext cx="8384760" cy="61466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612" name="Straight Connector 10"/>
              <p:cNvSpPr/>
              <p:nvPr/>
            </p:nvSpPr>
            <p:spPr>
              <a:xfrm>
                <a:off x="378000" y="6281280"/>
                <a:ext cx="838476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613" name="Rectangle 11"/>
              <p:cNvSpPr/>
              <p:nvPr/>
            </p:nvSpPr>
            <p:spPr>
              <a:xfrm>
                <a:off x="378000" y="1667880"/>
                <a:ext cx="8384760" cy="61560"/>
              </a:xfrm>
              <a:prstGeom prst="rect">
                <a:avLst/>
              </a:prstGeom>
              <a:solidFill>
                <a:srgbClr val="cbd2d5"/>
              </a:solidFill>
              <a:ln w="3240">
                <a:solidFill>
                  <a:srgbClr val="d1d0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</p:grpSp>
      </p:grp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 type="dt" idx="39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1477C3-5A3F-473F-A924-1FD6D92CBACB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 type="ftr" idx="40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 type="sldNum" idx="41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D5AC50-5762-4269-9541-90C86090FDB6}" type="slidenum">
              <a:rPr b="0" lang="en-US" sz="1200" spc="-1" strike="noStrike">
                <a:solidFill>
                  <a:srgbClr val="b0bcc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5" name="Group 19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656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7" name="Group 10"/>
            <p:cNvGrpSpPr/>
            <p:nvPr/>
          </p:nvGrpSpPr>
          <p:grpSpPr>
            <a:xfrm>
              <a:off x="378000" y="349560"/>
              <a:ext cx="8384760" cy="6146640"/>
              <a:chOff x="378000" y="349560"/>
              <a:chExt cx="8384760" cy="6146640"/>
            </a:xfrm>
          </p:grpSpPr>
          <p:sp>
            <p:nvSpPr>
              <p:cNvPr id="658" name="Rectangle 9"/>
              <p:cNvSpPr/>
              <p:nvPr/>
            </p:nvSpPr>
            <p:spPr>
              <a:xfrm>
                <a:off x="378000" y="349560"/>
                <a:ext cx="8384760" cy="61466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659" name="Straight Connector 10"/>
              <p:cNvSpPr/>
              <p:nvPr/>
            </p:nvSpPr>
            <p:spPr>
              <a:xfrm>
                <a:off x="378000" y="6281280"/>
                <a:ext cx="838476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</p:grpSp>
      </p:grpSp>
      <p:sp>
        <p:nvSpPr>
          <p:cNvPr id="660" name="Rectangle 11"/>
          <p:cNvSpPr/>
          <p:nvPr/>
        </p:nvSpPr>
        <p:spPr>
          <a:xfrm rot="5400000">
            <a:off x="4242240" y="3274200"/>
            <a:ext cx="6135840" cy="633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61" name="Rectangle 12"/>
          <p:cNvSpPr/>
          <p:nvPr/>
        </p:nvSpPr>
        <p:spPr>
          <a:xfrm rot="5400000">
            <a:off x="4242240" y="3274200"/>
            <a:ext cx="6135840" cy="633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 type="dt" idx="42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8450C3-5078-4614-9EDC-DECFB73BBFE9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 type="ftr" idx="43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 type="sldNum" idx="44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F7C071-AA55-4B58-9B20-AA98E5F9C55E}" type="slidenum">
              <a:rPr b="0" lang="en-US" sz="1200" spc="-1" strike="noStrike">
                <a:solidFill>
                  <a:srgbClr val="b0bcc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 type="dt" idx="45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 type="ftr" idx="46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 type="sldNum" idx="47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4EF310-170A-4532-BC7F-2BB7EA07D9EB}" type="slidenum">
              <a:rPr b="0" lang="en-US" sz="1200" spc="-1" strike="noStrike">
                <a:solidFill>
                  <a:srgbClr val="b0bcc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7"/>
          <p:cNvGrpSpPr/>
          <p:nvPr/>
        </p:nvGrpSpPr>
        <p:grpSpPr>
          <a:xfrm>
            <a:off x="487440" y="411120"/>
            <a:ext cx="8169120" cy="6035760"/>
            <a:chOff x="487440" y="411120"/>
            <a:chExt cx="8169120" cy="6035760"/>
          </a:xfrm>
        </p:grpSpPr>
        <p:pic>
          <p:nvPicPr>
            <p:cNvPr id="42" name="Picture 7" descr="PaperPanel-Title.jpg"/>
            <p:cNvPicPr/>
            <p:nvPr/>
          </p:nvPicPr>
          <p:blipFill>
            <a:blip r:embed="rId3"/>
            <a:stretch/>
          </p:blipFill>
          <p:spPr>
            <a:xfrm>
              <a:off x="487440" y="411120"/>
              <a:ext cx="8169120" cy="603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Rectangle 8"/>
            <p:cNvSpPr/>
            <p:nvPr/>
          </p:nvSpPr>
          <p:spPr>
            <a:xfrm>
              <a:off x="684360" y="581400"/>
              <a:ext cx="7746480" cy="5682960"/>
            </a:xfrm>
            <a:prstGeom prst="rect">
              <a:avLst/>
            </a:prstGeom>
            <a:noFill/>
            <a:ln w="12600">
              <a:solidFill>
                <a:srgbClr val="bebd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4" name="Straight Connector 9"/>
            <p:cNvSpPr/>
            <p:nvPr/>
          </p:nvSpPr>
          <p:spPr>
            <a:xfrm>
              <a:off x="684360" y="6042240"/>
              <a:ext cx="7746480" cy="1080"/>
            </a:xfrm>
            <a:prstGeom prst="line">
              <a:avLst/>
            </a:prstGeom>
            <a:ln w="12600">
              <a:solidFill>
                <a:srgbClr val="bebd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5" name="Rectangle 10"/>
            <p:cNvSpPr/>
            <p:nvPr/>
          </p:nvSpPr>
          <p:spPr>
            <a:xfrm>
              <a:off x="684360" y="563760"/>
              <a:ext cx="7746480" cy="2488320"/>
            </a:xfrm>
            <a:prstGeom prst="rect">
              <a:avLst/>
            </a:prstGeom>
            <a:solidFill>
              <a:srgbClr val="cbd2d5"/>
            </a:solidFill>
            <a:ln w="3240">
              <a:solidFill>
                <a:srgbClr val="d1d0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572760" y="6122520"/>
            <a:ext cx="213372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604DEB-08A6-480F-BBE7-6D085E8CB28A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5638680" y="6122520"/>
            <a:ext cx="289584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4191120" y="612288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5FCDFA-E3CF-4486-B7BD-A39FF328763E}" type="slidenum">
              <a:rPr b="0" lang="en-US" sz="1200" spc="-1" strike="noStrike">
                <a:solidFill>
                  <a:srgbClr val="b0bcc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15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88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9" name="Group 10"/>
            <p:cNvGrpSpPr/>
            <p:nvPr/>
          </p:nvGrpSpPr>
          <p:grpSpPr>
            <a:xfrm>
              <a:off x="378000" y="349560"/>
              <a:ext cx="8384760" cy="6146640"/>
              <a:chOff x="378000" y="349560"/>
              <a:chExt cx="8384760" cy="6146640"/>
            </a:xfrm>
          </p:grpSpPr>
          <p:sp>
            <p:nvSpPr>
              <p:cNvPr id="90" name="Rectangle 9"/>
              <p:cNvSpPr/>
              <p:nvPr/>
            </p:nvSpPr>
            <p:spPr>
              <a:xfrm>
                <a:off x="378000" y="349560"/>
                <a:ext cx="8384760" cy="61466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91" name="Straight Connector 10"/>
              <p:cNvSpPr/>
              <p:nvPr/>
            </p:nvSpPr>
            <p:spPr>
              <a:xfrm>
                <a:off x="378000" y="6281280"/>
                <a:ext cx="838476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92" name="Rectangle 11"/>
              <p:cNvSpPr/>
              <p:nvPr/>
            </p:nvSpPr>
            <p:spPr>
              <a:xfrm>
                <a:off x="378000" y="1667880"/>
                <a:ext cx="8384760" cy="61560"/>
              </a:xfrm>
              <a:prstGeom prst="rect">
                <a:avLst/>
              </a:prstGeom>
              <a:solidFill>
                <a:srgbClr val="cbd2d5"/>
              </a:solidFill>
              <a:ln w="3240">
                <a:solidFill>
                  <a:srgbClr val="d1d0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</p:grpSp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3BBC82-5AC3-4286-9286-BAE5635E226C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6C6477-00CC-48FF-B37E-B2B083CAA515}" type="slidenum">
              <a:rPr b="0" lang="en-US" sz="1200" spc="-1" strike="noStrike">
                <a:solidFill>
                  <a:srgbClr val="b0bcc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6" descr="PaperPanel-Title.jpg"/>
          <p:cNvPicPr/>
          <p:nvPr/>
        </p:nvPicPr>
        <p:blipFill>
          <a:blip r:embed="rId3"/>
          <a:stretch/>
        </p:blipFill>
        <p:spPr>
          <a:xfrm>
            <a:off x="360360" y="298440"/>
            <a:ext cx="8418600" cy="6254640"/>
          </a:xfrm>
          <a:prstGeom prst="rect">
            <a:avLst/>
          </a:prstGeom>
          <a:ln w="0">
            <a:noFill/>
          </a:ln>
        </p:spPr>
      </p:pic>
      <p:grpSp>
        <p:nvGrpSpPr>
          <p:cNvPr id="135" name="Group 11"/>
          <p:cNvGrpSpPr/>
          <p:nvPr/>
        </p:nvGrpSpPr>
        <p:grpSpPr>
          <a:xfrm>
            <a:off x="563400" y="476280"/>
            <a:ext cx="7982280" cy="5888160"/>
            <a:chOff x="563400" y="476280"/>
            <a:chExt cx="7982280" cy="5888160"/>
          </a:xfrm>
        </p:grpSpPr>
        <p:sp>
          <p:nvSpPr>
            <p:cNvPr id="136" name="Rectangle 8"/>
            <p:cNvSpPr/>
            <p:nvPr/>
          </p:nvSpPr>
          <p:spPr>
            <a:xfrm>
              <a:off x="563400" y="476280"/>
              <a:ext cx="7982280" cy="5888160"/>
            </a:xfrm>
            <a:prstGeom prst="rect">
              <a:avLst/>
            </a:prstGeom>
            <a:noFill/>
            <a:ln w="12600">
              <a:solidFill>
                <a:srgbClr val="bebd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137" name="Straight Connector 9"/>
            <p:cNvSpPr/>
            <p:nvPr/>
          </p:nvSpPr>
          <p:spPr>
            <a:xfrm>
              <a:off x="563400" y="6134040"/>
              <a:ext cx="7982280" cy="1440"/>
            </a:xfrm>
            <a:prstGeom prst="line">
              <a:avLst/>
            </a:prstGeom>
            <a:ln w="12600">
              <a:solidFill>
                <a:srgbClr val="bebd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138" name="Straight Connector 10"/>
            <p:cNvSpPr/>
            <p:nvPr/>
          </p:nvSpPr>
          <p:spPr>
            <a:xfrm>
              <a:off x="563400" y="3427920"/>
              <a:ext cx="7982280" cy="1440"/>
            </a:xfrm>
            <a:prstGeom prst="line">
              <a:avLst/>
            </a:prstGeom>
            <a:ln w="12600">
              <a:solidFill>
                <a:srgbClr val="bebd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569520" y="6122520"/>
            <a:ext cx="213372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2A4436-C149-440B-BF0B-5DEFD600B872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5638680" y="6124680"/>
            <a:ext cx="289584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23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180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1" name="Group 10"/>
            <p:cNvGrpSpPr/>
            <p:nvPr/>
          </p:nvGrpSpPr>
          <p:grpSpPr>
            <a:xfrm>
              <a:off x="378000" y="349560"/>
              <a:ext cx="8384760" cy="6146640"/>
              <a:chOff x="378000" y="349560"/>
              <a:chExt cx="8384760" cy="6146640"/>
            </a:xfrm>
          </p:grpSpPr>
          <p:sp>
            <p:nvSpPr>
              <p:cNvPr id="182" name="Rectangle 9"/>
              <p:cNvSpPr/>
              <p:nvPr/>
            </p:nvSpPr>
            <p:spPr>
              <a:xfrm>
                <a:off x="378000" y="349560"/>
                <a:ext cx="8384760" cy="61466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183" name="Straight Connector 10"/>
              <p:cNvSpPr/>
              <p:nvPr/>
            </p:nvSpPr>
            <p:spPr>
              <a:xfrm>
                <a:off x="378000" y="6281280"/>
                <a:ext cx="838476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</p:grp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2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A95285-19CA-4908-AB88-89884F232577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3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4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10F861-E9B6-4340-9477-A0EC16933D7C}" type="slidenum">
              <a:rPr b="0" lang="en-US" sz="1200" spc="-1" strike="noStrike">
                <a:solidFill>
                  <a:srgbClr val="b0bcc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13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226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7" name="Group 10"/>
            <p:cNvGrpSpPr/>
            <p:nvPr/>
          </p:nvGrpSpPr>
          <p:grpSpPr>
            <a:xfrm>
              <a:off x="378000" y="349560"/>
              <a:ext cx="8384760" cy="6146640"/>
              <a:chOff x="378000" y="349560"/>
              <a:chExt cx="8384760" cy="6146640"/>
            </a:xfrm>
          </p:grpSpPr>
          <p:sp>
            <p:nvSpPr>
              <p:cNvPr id="228" name="Rectangle 9"/>
              <p:cNvSpPr/>
              <p:nvPr/>
            </p:nvSpPr>
            <p:spPr>
              <a:xfrm>
                <a:off x="378000" y="349560"/>
                <a:ext cx="8384760" cy="61466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229" name="Straight Connector 10"/>
              <p:cNvSpPr/>
              <p:nvPr/>
            </p:nvSpPr>
            <p:spPr>
              <a:xfrm>
                <a:off x="378000" y="6281280"/>
                <a:ext cx="838476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230" name="Rectangle 11"/>
              <p:cNvSpPr/>
              <p:nvPr/>
            </p:nvSpPr>
            <p:spPr>
              <a:xfrm>
                <a:off x="378000" y="1667880"/>
                <a:ext cx="8384760" cy="61560"/>
              </a:xfrm>
              <a:prstGeom prst="rect">
                <a:avLst/>
              </a:prstGeom>
              <a:solidFill>
                <a:srgbClr val="cbd2d5"/>
              </a:solidFill>
              <a:ln w="3240">
                <a:solidFill>
                  <a:srgbClr val="d1d0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</p:grpSp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5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E0D242-3965-4E89-8454-D18B55B77714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6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7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178D26-BA4F-4A42-B373-98D86D915C96}" type="slidenum">
              <a:rPr b="0" lang="en-US" sz="1200" spc="-1" strike="noStrike">
                <a:solidFill>
                  <a:srgbClr val="b0bcc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Group 16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273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4" name="Group 8"/>
            <p:cNvGrpSpPr/>
            <p:nvPr/>
          </p:nvGrpSpPr>
          <p:grpSpPr>
            <a:xfrm>
              <a:off x="378000" y="349560"/>
              <a:ext cx="8384760" cy="6146640"/>
              <a:chOff x="378000" y="349560"/>
              <a:chExt cx="8384760" cy="6146640"/>
            </a:xfrm>
          </p:grpSpPr>
          <p:sp>
            <p:nvSpPr>
              <p:cNvPr id="275" name="Rectangle 9"/>
              <p:cNvSpPr/>
              <p:nvPr/>
            </p:nvSpPr>
            <p:spPr>
              <a:xfrm>
                <a:off x="378000" y="349560"/>
                <a:ext cx="8384760" cy="61466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276" name="Straight Connector 10"/>
              <p:cNvSpPr/>
              <p:nvPr/>
            </p:nvSpPr>
            <p:spPr>
              <a:xfrm>
                <a:off x="378000" y="6281280"/>
                <a:ext cx="838476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277" name="Rectangle 11"/>
              <p:cNvSpPr/>
              <p:nvPr/>
            </p:nvSpPr>
            <p:spPr>
              <a:xfrm>
                <a:off x="378000" y="1667880"/>
                <a:ext cx="8384760" cy="61560"/>
              </a:xfrm>
              <a:prstGeom prst="rect">
                <a:avLst/>
              </a:prstGeom>
              <a:solidFill>
                <a:srgbClr val="cbd2d5"/>
              </a:solidFill>
              <a:ln w="3240">
                <a:solidFill>
                  <a:srgbClr val="d1d0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</p:grpSp>
      </p:grpSp>
      <p:sp>
        <p:nvSpPr>
          <p:cNvPr id="278" name="Straight Connector 12"/>
          <p:cNvSpPr/>
          <p:nvPr/>
        </p:nvSpPr>
        <p:spPr>
          <a:xfrm>
            <a:off x="4572000" y="1671480"/>
            <a:ext cx="1440" cy="4711680"/>
          </a:xfrm>
          <a:prstGeom prst="line">
            <a:avLst/>
          </a:prstGeom>
          <a:ln w="12600">
            <a:solidFill>
              <a:srgbClr val="bebd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9" name="Straight Connector 13"/>
          <p:cNvSpPr/>
          <p:nvPr/>
        </p:nvSpPr>
        <p:spPr>
          <a:xfrm>
            <a:off x="4572000" y="1671480"/>
            <a:ext cx="1440" cy="4711680"/>
          </a:xfrm>
          <a:prstGeom prst="line">
            <a:avLst/>
          </a:prstGeom>
          <a:ln w="12600">
            <a:solidFill>
              <a:srgbClr val="bebd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8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CFD740-C074-4946-86EC-B52A02D57032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19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0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9B21A6-F2DB-4448-ADFA-BC46B2F5B29E}" type="slidenum">
              <a:rPr b="0" lang="en-US" sz="1200" spc="-1" strike="noStrike">
                <a:solidFill>
                  <a:srgbClr val="b0bcc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Group 18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322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23" name="Group 10"/>
            <p:cNvGrpSpPr/>
            <p:nvPr/>
          </p:nvGrpSpPr>
          <p:grpSpPr>
            <a:xfrm>
              <a:off x="378000" y="349560"/>
              <a:ext cx="8384760" cy="6146640"/>
              <a:chOff x="378000" y="349560"/>
              <a:chExt cx="8384760" cy="6146640"/>
            </a:xfrm>
          </p:grpSpPr>
          <p:sp>
            <p:nvSpPr>
              <p:cNvPr id="324" name="Rectangle 9"/>
              <p:cNvSpPr/>
              <p:nvPr/>
            </p:nvSpPr>
            <p:spPr>
              <a:xfrm>
                <a:off x="378000" y="349560"/>
                <a:ext cx="8384760" cy="61466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325" name="Straight Connector 10"/>
              <p:cNvSpPr/>
              <p:nvPr/>
            </p:nvSpPr>
            <p:spPr>
              <a:xfrm>
                <a:off x="378000" y="6281280"/>
                <a:ext cx="838476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326" name="Rectangle 11"/>
              <p:cNvSpPr/>
              <p:nvPr/>
            </p:nvSpPr>
            <p:spPr>
              <a:xfrm>
                <a:off x="378000" y="1667880"/>
                <a:ext cx="8384760" cy="61560"/>
              </a:xfrm>
              <a:prstGeom prst="rect">
                <a:avLst/>
              </a:prstGeom>
              <a:solidFill>
                <a:srgbClr val="cbd2d5"/>
              </a:solidFill>
              <a:ln w="3240">
                <a:solidFill>
                  <a:srgbClr val="d1d0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</p:grp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1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E4B3C3-818F-4822-989C-01FA58032AE1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2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3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CA5B24-7BBB-40E7-B282-018D683A185C}" type="slidenum">
              <a:rPr b="0" lang="en-US" sz="1200" spc="-1" strike="noStrike">
                <a:solidFill>
                  <a:srgbClr val="b0bcc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Group 17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369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0" name="Group 10"/>
            <p:cNvGrpSpPr/>
            <p:nvPr/>
          </p:nvGrpSpPr>
          <p:grpSpPr>
            <a:xfrm>
              <a:off x="378000" y="349560"/>
              <a:ext cx="8384760" cy="6146640"/>
              <a:chOff x="378000" y="349560"/>
              <a:chExt cx="8384760" cy="6146640"/>
            </a:xfrm>
          </p:grpSpPr>
          <p:sp>
            <p:nvSpPr>
              <p:cNvPr id="371" name="Rectangle 9"/>
              <p:cNvSpPr/>
              <p:nvPr/>
            </p:nvSpPr>
            <p:spPr>
              <a:xfrm>
                <a:off x="378000" y="349560"/>
                <a:ext cx="8384760" cy="61466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372" name="Straight Connector 10"/>
              <p:cNvSpPr/>
              <p:nvPr/>
            </p:nvSpPr>
            <p:spPr>
              <a:xfrm>
                <a:off x="378000" y="6281280"/>
                <a:ext cx="838476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</p:grpSp>
      </p:grp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4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F67F82-4918-4F87-B695-1F54DC0C37B2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5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6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81DF58-5C57-4156-A552-7BA57C9AA12E}" type="slidenum">
              <a:rPr b="0" lang="en-US" sz="1200" spc="-1" strike="noStrike">
                <a:solidFill>
                  <a:srgbClr val="b0bcc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8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2573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404040"/>
                </a:solidFill>
                <a:latin typeface="Calisto MT"/>
              </a:rPr>
              <a:t>Writing Complex Sentences</a:t>
            </a:r>
            <a:endParaRPr b="0" lang="en-US" sz="49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Text Box 25"/>
          <p:cNvSpPr/>
          <p:nvPr/>
        </p:nvSpPr>
        <p:spPr>
          <a:xfrm>
            <a:off x="777960" y="5060880"/>
            <a:ext cx="720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e dependent clause needs the rest of the sentence for support.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62" name="Text Box 26"/>
          <p:cNvSpPr/>
          <p:nvPr/>
        </p:nvSpPr>
        <p:spPr>
          <a:xfrm>
            <a:off x="1144440" y="31320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Because you love me, I love you.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</p:txBody>
      </p:sp>
      <p:grpSp>
        <p:nvGrpSpPr>
          <p:cNvPr id="763" name="Group 32"/>
          <p:cNvGrpSpPr/>
          <p:nvPr/>
        </p:nvGrpSpPr>
        <p:grpSpPr>
          <a:xfrm>
            <a:off x="1408320" y="2057400"/>
            <a:ext cx="3436200" cy="1076040"/>
            <a:chOff x="1408320" y="2057400"/>
            <a:chExt cx="3436200" cy="1076040"/>
          </a:xfrm>
        </p:grpSpPr>
        <p:sp>
          <p:nvSpPr>
            <p:cNvPr id="764" name="AutoShape 27"/>
            <p:cNvSpPr/>
            <p:nvPr/>
          </p:nvSpPr>
          <p:spPr>
            <a:xfrm rot="16218600">
              <a:off x="2859480" y="1140480"/>
              <a:ext cx="533520" cy="3433320"/>
            </a:xfrm>
            <a:custGeom>
              <a:avLst/>
              <a:gdLst>
                <a:gd name="textAreaLeft" fmla="*/ 0 w 533520"/>
                <a:gd name="textAreaRight" fmla="*/ 192600 w 533520"/>
                <a:gd name="textAreaTop" fmla="*/ 89280 h 3433320"/>
                <a:gd name="textAreaBottom" fmla="*/ 3344040 h 343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765" name="Text Box 28"/>
            <p:cNvSpPr/>
            <p:nvPr/>
          </p:nvSpPr>
          <p:spPr>
            <a:xfrm>
              <a:off x="1497240" y="2057400"/>
              <a:ext cx="2993400" cy="459720"/>
            </a:xfrm>
            <a:prstGeom prst="rect">
              <a:avLst/>
            </a:prstGeom>
            <a:solidFill>
              <a:srgbClr val="8f99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sto MT"/>
                </a:rPr>
                <a:t>Dependent clause</a:t>
              </a:r>
              <a:endParaRPr b="0" lang="en-US" sz="24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grpSp>
        <p:nvGrpSpPr>
          <p:cNvPr id="766" name="Group 33"/>
          <p:cNvGrpSpPr/>
          <p:nvPr/>
        </p:nvGrpSpPr>
        <p:grpSpPr>
          <a:xfrm>
            <a:off x="4497480" y="3581640"/>
            <a:ext cx="3123720" cy="921600"/>
            <a:chOff x="4497480" y="3581640"/>
            <a:chExt cx="3123720" cy="921600"/>
          </a:xfrm>
        </p:grpSpPr>
        <p:sp>
          <p:nvSpPr>
            <p:cNvPr id="767" name="AutoShape 29"/>
            <p:cNvSpPr/>
            <p:nvPr/>
          </p:nvSpPr>
          <p:spPr>
            <a:xfrm flipV="1" rot="5381400">
              <a:off x="5868720" y="2954160"/>
              <a:ext cx="380880" cy="164412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42840 h 1644120"/>
                <a:gd name="textAreaBottom" fmla="*/ 1601280 h 164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768" name="Text Box 30"/>
            <p:cNvSpPr/>
            <p:nvPr/>
          </p:nvSpPr>
          <p:spPr>
            <a:xfrm>
              <a:off x="4497480" y="4043520"/>
              <a:ext cx="3123720" cy="459720"/>
            </a:xfrm>
            <a:prstGeom prst="rect">
              <a:avLst/>
            </a:prstGeom>
            <a:solidFill>
              <a:srgbClr val="524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sto MT"/>
                </a:rPr>
                <a:t>Independent clause</a:t>
              </a:r>
              <a:endParaRPr b="0" lang="en-US" sz="24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omplex Sentence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Text Box 9"/>
          <p:cNvSpPr/>
          <p:nvPr/>
        </p:nvSpPr>
        <p:spPr>
          <a:xfrm>
            <a:off x="1179360" y="3743280"/>
            <a:ext cx="7242480" cy="21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i="1" lang="en-US" sz="2000" spc="-1" strike="noStrike">
                <a:solidFill>
                  <a:srgbClr val="9c5238"/>
                </a:solidFill>
                <a:latin typeface="Verdana"/>
              </a:rPr>
              <a:t>dependent clause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tains a subject and verb. 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*It does not express a complete thought because it begins with a subordinating conjunction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i="1" lang="en-US" sz="2000" spc="-1" strike="noStrike">
                <a:solidFill>
                  <a:srgbClr val="9c5238"/>
                </a:solidFill>
                <a:latin typeface="Verdana"/>
              </a:rPr>
              <a:t>dependent clause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also called a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subordinat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lause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*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Depende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claus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like babies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anno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stand alon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71" name="Text Box 10"/>
          <p:cNvSpPr/>
          <p:nvPr/>
        </p:nvSpPr>
        <p:spPr>
          <a:xfrm>
            <a:off x="2209680" y="2789280"/>
            <a:ext cx="4496040" cy="581400"/>
          </a:xfrm>
          <a:prstGeom prst="rect">
            <a:avLst/>
          </a:prstGeom>
          <a:solidFill>
            <a:srgbClr val="8f99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c5238"/>
                </a:solidFill>
                <a:latin typeface="Calisto MT"/>
              </a:rPr>
              <a:t>Because you love me.</a:t>
            </a:r>
            <a:endParaRPr b="0" lang="en-US" sz="3200" spc="-1" strike="noStrike">
              <a:solidFill>
                <a:srgbClr val="000000"/>
              </a:solidFill>
              <a:latin typeface="Calisto MT"/>
            </a:endParaRPr>
          </a:p>
        </p:txBody>
      </p:sp>
      <p:grpSp>
        <p:nvGrpSpPr>
          <p:cNvPr id="772" name="Group 43"/>
          <p:cNvGrpSpPr/>
          <p:nvPr/>
        </p:nvGrpSpPr>
        <p:grpSpPr>
          <a:xfrm>
            <a:off x="4800600" y="1774800"/>
            <a:ext cx="2286000" cy="900000"/>
            <a:chOff x="4800600" y="1774800"/>
            <a:chExt cx="2286000" cy="900000"/>
          </a:xfrm>
        </p:grpSpPr>
        <p:sp>
          <p:nvSpPr>
            <p:cNvPr id="773" name="Text Box 11"/>
            <p:cNvSpPr/>
            <p:nvPr/>
          </p:nvSpPr>
          <p:spPr>
            <a:xfrm>
              <a:off x="4800600" y="1774800"/>
              <a:ext cx="2286000" cy="581400"/>
            </a:xfrm>
            <a:prstGeom prst="rect">
              <a:avLst/>
            </a:prstGeom>
            <a:solidFill>
              <a:srgbClr val="524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sto MT"/>
                </a:rPr>
                <a:t>Fragment!</a:t>
              </a:r>
              <a:endParaRPr b="0" lang="en-US" sz="3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774" name="Line 12"/>
            <p:cNvSpPr/>
            <p:nvPr/>
          </p:nvSpPr>
          <p:spPr>
            <a:xfrm flipH="1">
              <a:off x="5181480" y="2446200"/>
              <a:ext cx="5335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Dependent Clause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sto MT"/>
              </a:rPr>
              <a:t>Punctuation for Complex Sentences</a:t>
            </a:r>
            <a:endParaRPr b="0" lang="en-US" sz="32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77" name=""/>
          <p:cNvSpPr txBox="1"/>
          <p:nvPr/>
        </p:nvSpPr>
        <p:spPr>
          <a:xfrm>
            <a:off x="574200" y="2338560"/>
            <a:ext cx="7713720" cy="37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ommas are used to join a dependent clause to an independent clause </a:t>
            </a:r>
            <a:r>
              <a:rPr b="0" i="1" lang="en-US" sz="2400" spc="-1" strike="noStrike">
                <a:solidFill>
                  <a:srgbClr val="404040"/>
                </a:solidFill>
                <a:latin typeface="Calisto MT"/>
              </a:rPr>
              <a:t>if</a:t>
            </a: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 the dependent clause comes </a:t>
            </a:r>
            <a:r>
              <a:rPr b="0" i="1" lang="en-US" sz="2400" spc="-1" strike="noStrike">
                <a:solidFill>
                  <a:srgbClr val="404040"/>
                </a:solidFill>
                <a:latin typeface="Calisto MT"/>
              </a:rPr>
              <a:t>first</a:t>
            </a: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 in the sentence. The comma must follow the dependent clause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79600" indent="-2286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As I walked down the hallway, I could hear the echo of my footsteps. 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78" name="Oval 4"/>
          <p:cNvSpPr/>
          <p:nvPr/>
        </p:nvSpPr>
        <p:spPr>
          <a:xfrm flipH="1">
            <a:off x="4661640" y="3886200"/>
            <a:ext cx="574920" cy="617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sto MT"/>
              </a:rPr>
              <a:t>Punctuation for Complex Sentences</a:t>
            </a:r>
            <a:endParaRPr b="0" lang="en-US" sz="32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566280" y="2338560"/>
            <a:ext cx="8001000" cy="387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040"/>
                </a:solidFill>
                <a:latin typeface="Calisto MT"/>
              </a:rPr>
              <a:t>No </a:t>
            </a: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omma is used when the dependent clause comes </a:t>
            </a:r>
            <a:r>
              <a:rPr b="0" i="1" lang="en-US" sz="2400" spc="-1" strike="noStrike">
                <a:solidFill>
                  <a:srgbClr val="404040"/>
                </a:solidFill>
                <a:latin typeface="Calisto MT"/>
              </a:rPr>
              <a:t>after</a:t>
            </a: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 the independent clause. Then, the clauses are joined without any punctuation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343080" indent="-343080">
              <a:spcBef>
                <a:spcPts val="2001"/>
              </a:spcBef>
              <a:buClr>
                <a:srgbClr val="524a82"/>
              </a:buClr>
              <a:buFont typeface="Calisto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I could hear the echo of my footsteps as I walked down the hallway. 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524a82"/>
              </a:buClr>
              <a:buFont typeface="Calisto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sto MT"/>
              </a:rPr>
              <a:t>Punctuation for Complex Sentences</a:t>
            </a:r>
            <a:endParaRPr b="0" lang="en-US" sz="32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82" name=""/>
          <p:cNvSpPr txBox="1"/>
          <p:nvPr/>
        </p:nvSpPr>
        <p:spPr>
          <a:xfrm>
            <a:off x="566280" y="22125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nce dependent clauses are only part of a sentence, you can never use a semicolon to connect them to another sentence.  Semicolons are only used </a:t>
            </a:r>
            <a:r>
              <a:rPr b="0" lang="en-US" sz="2400" spc="-1" strike="noStrike" u="sng">
                <a:solidFill>
                  <a:srgbClr val="404040"/>
                </a:solidFill>
                <a:uFillTx/>
                <a:latin typeface="Calisto MT"/>
              </a:rPr>
              <a:t>between</a:t>
            </a: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 complete sentences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1280" indent="-341280">
              <a:lnSpc>
                <a:spcPct val="90000"/>
              </a:lnSpc>
              <a:spcBef>
                <a:spcPts val="2001"/>
              </a:spcBef>
              <a:buClr>
                <a:srgbClr val="524a82"/>
              </a:buClr>
              <a:buFont typeface="Calisto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79600" indent="-228600">
              <a:lnSpc>
                <a:spcPct val="90000"/>
              </a:lnSpc>
              <a:spcBef>
                <a:spcPts val="601"/>
              </a:spcBef>
              <a:buClr>
                <a:srgbClr val="524a82"/>
              </a:buClr>
              <a:buFont typeface="Calisto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I have loved you for years ; although I never admitted it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79600" indent="-228600">
              <a:lnSpc>
                <a:spcPct val="90000"/>
              </a:lnSpc>
              <a:spcBef>
                <a:spcPts val="601"/>
              </a:spcBef>
              <a:buClr>
                <a:srgbClr val="524a82"/>
              </a:buClr>
              <a:buFont typeface="Calisto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I have loved you for years although I never admitted it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83" name="Oval 4"/>
          <p:cNvSpPr/>
          <p:nvPr/>
        </p:nvSpPr>
        <p:spPr>
          <a:xfrm>
            <a:off x="4371840" y="3774960"/>
            <a:ext cx="594000" cy="649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grpSp>
        <p:nvGrpSpPr>
          <p:cNvPr id="784" name="Group 11"/>
          <p:cNvGrpSpPr/>
          <p:nvPr/>
        </p:nvGrpSpPr>
        <p:grpSpPr>
          <a:xfrm>
            <a:off x="5167080" y="4376880"/>
            <a:ext cx="1083960" cy="618840"/>
            <a:chOff x="5167080" y="4376880"/>
            <a:chExt cx="1083960" cy="618840"/>
          </a:xfrm>
        </p:grpSpPr>
        <p:sp>
          <p:nvSpPr>
            <p:cNvPr id="785" name="Text Box 7"/>
            <p:cNvSpPr/>
            <p:nvPr/>
          </p:nvSpPr>
          <p:spPr>
            <a:xfrm>
              <a:off x="5662440" y="4627440"/>
              <a:ext cx="588600" cy="368280"/>
            </a:xfrm>
            <a:prstGeom prst="rect">
              <a:avLst/>
            </a:prstGeom>
            <a:solidFill>
              <a:srgbClr val="8f9954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sto MT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786" name="Line 8"/>
            <p:cNvSpPr/>
            <p:nvPr/>
          </p:nvSpPr>
          <p:spPr>
            <a:xfrm flipH="1" flipV="1">
              <a:off x="5167080" y="4376880"/>
              <a:ext cx="463320" cy="29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grpSp>
        <p:nvGrpSpPr>
          <p:cNvPr id="787" name="Group 10"/>
          <p:cNvGrpSpPr/>
          <p:nvPr/>
        </p:nvGrpSpPr>
        <p:grpSpPr>
          <a:xfrm>
            <a:off x="4527720" y="4635360"/>
            <a:ext cx="997920" cy="368280"/>
            <a:chOff x="4527720" y="4635360"/>
            <a:chExt cx="997920" cy="368280"/>
          </a:xfrm>
        </p:grpSpPr>
        <p:sp>
          <p:nvSpPr>
            <p:cNvPr id="788" name="Text Box 6"/>
            <p:cNvSpPr/>
            <p:nvPr/>
          </p:nvSpPr>
          <p:spPr>
            <a:xfrm>
              <a:off x="4937040" y="4635360"/>
              <a:ext cx="588600" cy="368280"/>
            </a:xfrm>
            <a:prstGeom prst="rect">
              <a:avLst/>
            </a:prstGeom>
            <a:solidFill>
              <a:srgbClr val="524a8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sto MT"/>
                </a:rPr>
                <a:t>No!</a:t>
              </a:r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789" name="Line 9"/>
            <p:cNvSpPr/>
            <p:nvPr/>
          </p:nvSpPr>
          <p:spPr>
            <a:xfrm flipH="1" flipV="1">
              <a:off x="4527720" y="4635360"/>
              <a:ext cx="490320" cy="231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45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88880" y="507600"/>
            <a:ext cx="827712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ommon Subordinating (Dependent) Conjunctions</a:t>
            </a:r>
            <a:br>
              <a:rPr sz="2400"/>
            </a:b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graphicFrame>
        <p:nvGraphicFramePr>
          <p:cNvPr id="791" name=""/>
          <p:cNvGraphicFramePr/>
          <p:nvPr/>
        </p:nvGraphicFramePr>
        <p:xfrm>
          <a:off x="380880" y="1981080"/>
          <a:ext cx="8534520" cy="4199040"/>
        </p:xfrm>
        <a:graphic>
          <a:graphicData uri="http://schemas.openxmlformats.org/drawingml/2006/table">
            <a:tbl>
              <a:tblPr/>
              <a:tblGrid>
                <a:gridCol w="1600200"/>
                <a:gridCol w="1812960"/>
                <a:gridCol w="1997280"/>
                <a:gridCol w="1417680"/>
                <a:gridCol w="1706400"/>
              </a:tblGrid>
              <a:tr h="76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af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sto M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even i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sto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now th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sto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th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sto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whe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sto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althoug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sto M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even thoug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sto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o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sto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thoug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sto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where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sto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sto M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i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sto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rather th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sto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unl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sto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wherev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sto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as i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sto M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whenev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sto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si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sto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unt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sto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wheth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sto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becau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sto M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in ord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sto MT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th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sto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so th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sto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wh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sto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whi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sto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bef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sto M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sto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th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sto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in ca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sto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whi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sto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sto MT"/>
              </a:rPr>
              <a:t>The Compound-Complex Sentence</a:t>
            </a:r>
            <a:endParaRPr b="0" lang="en-US" sz="32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574560" y="2593800"/>
            <a:ext cx="7470720" cy="35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524a82"/>
              </a:buClr>
              <a:buFont typeface="Calisto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A compound-complex sentence is the last and most complicated type of sentence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  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524a82"/>
              </a:buClr>
              <a:buFont typeface="Calisto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It contains at least one dependent clause and at least two independent clauses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Text Box 22"/>
          <p:cNvSpPr/>
          <p:nvPr/>
        </p:nvSpPr>
        <p:spPr>
          <a:xfrm>
            <a:off x="865080" y="5716440"/>
            <a:ext cx="770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A dependent clause added to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sto MT"/>
              </a:rPr>
              <a:t>two</a:t>
            </a: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 or more independent clause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95" name="Text Box 23"/>
          <p:cNvSpPr/>
          <p:nvPr/>
        </p:nvSpPr>
        <p:spPr>
          <a:xfrm>
            <a:off x="1752480" y="2971800"/>
            <a:ext cx="708660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Because we are a family</a:t>
            </a:r>
            <a:r>
              <a:rPr b="1" lang="en-US" sz="2800" spc="-1" strike="noStrike">
                <a:solidFill>
                  <a:srgbClr val="000000"/>
                </a:solidFill>
                <a:latin typeface="Calisto MT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I love you</a:t>
            </a:r>
            <a:r>
              <a:rPr b="1" lang="en-US" sz="2800" spc="-1" strike="noStrike">
                <a:solidFill>
                  <a:srgbClr val="000000"/>
                </a:solidFill>
                <a:latin typeface="Calisto MT"/>
              </a:rPr>
              <a:t>, and</a:t>
            </a: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 you love me</a:t>
            </a:r>
            <a:r>
              <a:rPr b="0" lang="en-US" sz="3200" spc="-1" strike="noStrike">
                <a:solidFill>
                  <a:srgbClr val="000000"/>
                </a:solidFill>
                <a:latin typeface="Calisto MT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sto MT"/>
            </a:endParaRPr>
          </a:p>
        </p:txBody>
      </p:sp>
      <p:grpSp>
        <p:nvGrpSpPr>
          <p:cNvPr id="796" name="Group 33"/>
          <p:cNvGrpSpPr/>
          <p:nvPr/>
        </p:nvGrpSpPr>
        <p:grpSpPr>
          <a:xfrm>
            <a:off x="3431880" y="4268520"/>
            <a:ext cx="3809880" cy="1067040"/>
            <a:chOff x="3431880" y="4268520"/>
            <a:chExt cx="3809880" cy="1067040"/>
          </a:xfrm>
        </p:grpSpPr>
        <p:sp>
          <p:nvSpPr>
            <p:cNvPr id="797" name="Text Box 27"/>
            <p:cNvSpPr/>
            <p:nvPr/>
          </p:nvSpPr>
          <p:spPr>
            <a:xfrm>
              <a:off x="3965400" y="4827600"/>
              <a:ext cx="3276360" cy="459720"/>
            </a:xfrm>
            <a:prstGeom prst="rect">
              <a:avLst/>
            </a:prstGeom>
            <a:solidFill>
              <a:srgbClr val="524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sto MT"/>
                </a:rPr>
                <a:t>Independent clauses</a:t>
              </a:r>
              <a:endParaRPr b="0" lang="en-US" sz="24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798" name="Line 28"/>
            <p:cNvSpPr/>
            <p:nvPr/>
          </p:nvSpPr>
          <p:spPr>
            <a:xfrm flipH="1" flipV="1">
              <a:off x="3431880" y="4268520"/>
              <a:ext cx="1447560" cy="990360"/>
            </a:xfrm>
            <a:prstGeom prst="line">
              <a:avLst/>
            </a:prstGeom>
            <a:ln w="9360">
              <a:solidFill>
                <a:srgbClr val="524a8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799" name="Line 29"/>
            <p:cNvSpPr/>
            <p:nvPr/>
          </p:nvSpPr>
          <p:spPr>
            <a:xfrm flipV="1">
              <a:off x="5413320" y="4344840"/>
              <a:ext cx="1294920" cy="990720"/>
            </a:xfrm>
            <a:prstGeom prst="line">
              <a:avLst/>
            </a:prstGeom>
            <a:ln w="9360">
              <a:solidFill>
                <a:srgbClr val="524a8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grpSp>
        <p:nvGrpSpPr>
          <p:cNvPr id="800" name="Group 32"/>
          <p:cNvGrpSpPr/>
          <p:nvPr/>
        </p:nvGrpSpPr>
        <p:grpSpPr>
          <a:xfrm>
            <a:off x="2089440" y="1981080"/>
            <a:ext cx="5582160" cy="1005840"/>
            <a:chOff x="2089440" y="1981080"/>
            <a:chExt cx="5582160" cy="1005840"/>
          </a:xfrm>
        </p:grpSpPr>
        <p:sp>
          <p:nvSpPr>
            <p:cNvPr id="801" name="Text Box 25"/>
            <p:cNvSpPr/>
            <p:nvPr/>
          </p:nvSpPr>
          <p:spPr>
            <a:xfrm>
              <a:off x="2376720" y="1981080"/>
              <a:ext cx="4864320" cy="459720"/>
            </a:xfrm>
            <a:prstGeom prst="rect">
              <a:avLst/>
            </a:prstGeom>
            <a:solidFill>
              <a:srgbClr val="8f99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sto MT"/>
                </a:rPr>
                <a:t>Dependent clause</a:t>
              </a:r>
              <a:endParaRPr b="0" lang="en-US" sz="24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802" name="AutoShape 31"/>
            <p:cNvSpPr/>
            <p:nvPr/>
          </p:nvSpPr>
          <p:spPr>
            <a:xfrm rot="16218600">
              <a:off x="4632840" y="-65520"/>
              <a:ext cx="495360" cy="5579640"/>
            </a:xfrm>
            <a:custGeom>
              <a:avLst/>
              <a:gdLst>
                <a:gd name="textAreaLeft" fmla="*/ 0 w 495360"/>
                <a:gd name="textAreaRight" fmla="*/ 178920 w 495360"/>
                <a:gd name="textAreaTop" fmla="*/ 145440 h 5579640"/>
                <a:gd name="textAreaBottom" fmla="*/ 5434200 h 55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8f99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799308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Calisto MT"/>
              </a:rPr>
              <a:t>Compound-Complex Sentence</a:t>
            </a:r>
            <a:endParaRPr b="0" lang="en-US" sz="36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2"/>
          <p:cNvSpPr/>
          <p:nvPr/>
        </p:nvSpPr>
        <p:spPr>
          <a:xfrm>
            <a:off x="304920" y="220968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graphicFrame>
        <p:nvGraphicFramePr>
          <p:cNvPr id="805" name=""/>
          <p:cNvGraphicFramePr/>
          <p:nvPr/>
        </p:nvGraphicFramePr>
        <p:xfrm>
          <a:off x="1523880" y="2209680"/>
          <a:ext cx="6248520" cy="3143520"/>
        </p:xfrm>
        <a:graphic>
          <a:graphicData uri="http://schemas.openxmlformats.org/drawingml/2006/table">
            <a:tbl>
              <a:tblPr/>
              <a:tblGrid>
                <a:gridCol w="2830680"/>
                <a:gridCol w="3417840"/>
              </a:tblGrid>
              <a:tr h="11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sto M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524a82"/>
                          </a:solidFill>
                          <a:latin typeface="Verdana"/>
                        </a:rPr>
                        <a:t>Simpl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sto M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sto M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524a82"/>
                          </a:solidFill>
                          <a:latin typeface="Verdana"/>
                        </a:rPr>
                        <a:t>Compoun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sto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7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sto M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524a82"/>
                          </a:solidFill>
                          <a:latin typeface="Verdana"/>
                        </a:rPr>
                        <a:t>Comple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sto M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sto M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24a82"/>
                          </a:solidFill>
                          <a:latin typeface="Verdana"/>
                        </a:rPr>
                        <a:t>Compound-comple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sto M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sto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6" name="Text Box 94"/>
          <p:cNvSpPr/>
          <p:nvPr/>
        </p:nvSpPr>
        <p:spPr>
          <a:xfrm>
            <a:off x="623880" y="255600"/>
            <a:ext cx="786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Since every sentence in English fits into one of these four categories,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sto MT"/>
              </a:rPr>
              <a:t>Independent and Dependent Clauses</a:t>
            </a:r>
            <a:endParaRPr b="0" lang="en-US" sz="32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46" name=""/>
          <p:cNvSpPr txBox="1"/>
          <p:nvPr/>
        </p:nvSpPr>
        <p:spPr>
          <a:xfrm>
            <a:off x="566280" y="2021040"/>
            <a:ext cx="8001000" cy="39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0760" indent="-320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An </a:t>
            </a:r>
            <a:r>
              <a:rPr b="0" i="1" lang="en-US" sz="2400" spc="-1" strike="noStrike">
                <a:solidFill>
                  <a:srgbClr val="404040"/>
                </a:solidFill>
                <a:latin typeface="Calisto MT"/>
              </a:rPr>
              <a:t>independent clause</a:t>
            </a: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 contains a subject, verb, and makes sense when it stands by itself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20760" indent="-320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20760" indent="-320760">
              <a:spcBef>
                <a:spcPts val="2001"/>
              </a:spcBef>
              <a:buClr>
                <a:srgbClr val="524a82"/>
              </a:buClr>
              <a:buFont typeface="Calisto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e child’s endless crying is very disturbing to her parents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20760" indent="-320760">
              <a:spcBef>
                <a:spcPts val="2001"/>
              </a:spcBef>
              <a:buClr>
                <a:srgbClr val="524a82"/>
              </a:buClr>
              <a:buFont typeface="Calisto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olds, flu, and other respiratory infections happen frequently in the winter and cause absences from work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20760" indent="-320760">
              <a:spcBef>
                <a:spcPts val="2001"/>
              </a:spcBef>
              <a:buClr>
                <a:srgbClr val="524a82"/>
              </a:buClr>
              <a:buFont typeface="Calisto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James got a cup of coffee and turned on his computer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sto MT"/>
              </a:rPr>
              <a:t>Independent and Dependent Clauses</a:t>
            </a:r>
            <a:endParaRPr b="0" lang="en-US" sz="32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48" name=""/>
          <p:cNvSpPr txBox="1"/>
          <p:nvPr/>
        </p:nvSpPr>
        <p:spPr>
          <a:xfrm>
            <a:off x="574200" y="2084400"/>
            <a:ext cx="8001000" cy="39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A </a:t>
            </a:r>
            <a:r>
              <a:rPr b="0" i="1" lang="en-US" sz="2400" spc="-1" strike="noStrike">
                <a:solidFill>
                  <a:srgbClr val="404040"/>
                </a:solidFill>
                <a:latin typeface="Calisto MT"/>
              </a:rPr>
              <a:t>dependent </a:t>
            </a: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ause contains a subject(s) and verb(s), but it does not make sense when it stands by itself because it begins with a </a:t>
            </a:r>
            <a:r>
              <a:rPr b="0" i="1" lang="en-US" sz="2400" spc="-1" strike="noStrike">
                <a:solidFill>
                  <a:srgbClr val="404040"/>
                </a:solidFill>
                <a:latin typeface="Calisto MT"/>
              </a:rPr>
              <a:t>subordinating conjunction</a:t>
            </a: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 that is supposed to join it to an independent clause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1280" indent="-341280">
              <a:lnSpc>
                <a:spcPct val="90000"/>
              </a:lnSpc>
              <a:spcBef>
                <a:spcPts val="2001"/>
              </a:spcBef>
              <a:buClr>
                <a:srgbClr val="524a82"/>
              </a:buClr>
              <a:buFont typeface="Calisto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Because she has had a terrible cold all week 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1280" indent="-341280">
              <a:lnSpc>
                <a:spcPct val="90000"/>
              </a:lnSpc>
              <a:spcBef>
                <a:spcPts val="2001"/>
              </a:spcBef>
              <a:buClr>
                <a:srgbClr val="524a82"/>
              </a:buClr>
              <a:buFont typeface="Calisto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When I got to the office and checked my email this morning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1280" indent="-341280">
              <a:lnSpc>
                <a:spcPct val="90000"/>
              </a:lnSpc>
              <a:spcBef>
                <a:spcPts val="2001"/>
              </a:spcBef>
              <a:buClr>
                <a:srgbClr val="524a82"/>
              </a:buClr>
              <a:buFont typeface="Calisto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After Maria and Hector waited for an hour in the doctor’s office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The Simple Sentence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50" name=""/>
          <p:cNvSpPr txBox="1"/>
          <p:nvPr/>
        </p:nvSpPr>
        <p:spPr>
          <a:xfrm>
            <a:off x="1296720" y="2403360"/>
            <a:ext cx="6210360" cy="29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524a82"/>
              </a:buClr>
              <a:buFont typeface="Calisto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sto MT"/>
              </a:rPr>
              <a:t>A simple sentence is one </a:t>
            </a:r>
            <a:r>
              <a:rPr b="1" i="1" lang="en-US" sz="2800" spc="-1" strike="noStrike">
                <a:solidFill>
                  <a:srgbClr val="9c5238"/>
                </a:solidFill>
                <a:latin typeface="Calisto MT"/>
              </a:rPr>
              <a:t>independent clause.</a:t>
            </a:r>
            <a:endParaRPr b="0" lang="en-US" sz="28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524a82"/>
              </a:buClr>
              <a:buFont typeface="Calisto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sto MT"/>
              </a:rPr>
              <a:t>An </a:t>
            </a:r>
            <a:r>
              <a:rPr b="1" i="1" lang="en-US" sz="2800" spc="-1" strike="noStrike">
                <a:solidFill>
                  <a:srgbClr val="9c5238"/>
                </a:solidFill>
                <a:latin typeface="Calisto MT"/>
              </a:rPr>
              <a:t>independent clause </a:t>
            </a:r>
            <a:r>
              <a:rPr b="0" lang="en-US" sz="2800" spc="-1" strike="noStrike">
                <a:solidFill>
                  <a:srgbClr val="404040"/>
                </a:solidFill>
                <a:latin typeface="Calisto MT"/>
              </a:rPr>
              <a:t>ends with a period or semicolon</a:t>
            </a: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The Compound Sentence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963720" y="2084040"/>
            <a:ext cx="761184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A </a:t>
            </a:r>
            <a:r>
              <a:rPr b="0" i="1" lang="en-US" sz="2400" spc="-1" strike="noStrike">
                <a:solidFill>
                  <a:srgbClr val="9c5238"/>
                </a:solidFill>
                <a:latin typeface="Calisto MT"/>
              </a:rPr>
              <a:t>compound sentence </a:t>
            </a: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is made up of two or more simple sentences joined by one of the following: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524a82"/>
              </a:buClr>
              <a:buFont typeface="Calisto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A comma and a coordinating conjunction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524a82"/>
              </a:buClr>
              <a:buFont typeface="Calisto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A semicolon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524a82"/>
              </a:buClr>
              <a:buFont typeface="Calisto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A semicolon and a conjunctive adverb or transitional expression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79600" indent="-228600">
              <a:spcBef>
                <a:spcPts val="601"/>
              </a:spcBef>
              <a:buClr>
                <a:srgbClr val="524a8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oordinating Conjunctions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566280" y="2126880"/>
            <a:ext cx="8301240" cy="38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Remember the coordinating conjunctions by the acronym:  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Calisto MT"/>
              </a:rPr>
              <a:t>	</a:t>
            </a:r>
            <a:r>
              <a:rPr b="1" lang="en-US" sz="2800" spc="-1" strike="noStrike">
                <a:solidFill>
                  <a:srgbClr val="404040"/>
                </a:solidFill>
                <a:latin typeface="Calisto MT"/>
              </a:rPr>
              <a:t>	</a:t>
            </a:r>
            <a:r>
              <a:rPr b="1" lang="en-US" sz="2800" spc="-1" strike="noStrike">
                <a:solidFill>
                  <a:srgbClr val="404040"/>
                </a:solidFill>
                <a:latin typeface="Calisto MT"/>
              </a:rPr>
              <a:t>	</a:t>
            </a:r>
            <a:r>
              <a:rPr b="1" lang="en-US" sz="2800" spc="-1" strike="noStrike">
                <a:solidFill>
                  <a:srgbClr val="404040"/>
                </a:solidFill>
                <a:latin typeface="Calisto MT"/>
              </a:rPr>
              <a:t>       </a:t>
            </a:r>
            <a:r>
              <a:rPr b="1" lang="en-US" sz="2000" spc="-1" strike="noStrike">
                <a:solidFill>
                  <a:srgbClr val="404040"/>
                </a:solidFill>
                <a:latin typeface="Calisto MT"/>
              </a:rPr>
              <a:t>FANBOYS</a:t>
            </a:r>
            <a:endParaRPr b="0" lang="en-US" sz="2000" spc="-1" strike="noStrike">
              <a:solidFill>
                <a:srgbClr val="404040"/>
              </a:solidFill>
              <a:latin typeface="Calisto MT"/>
            </a:endParaRPr>
          </a:p>
          <a:p>
            <a:pPr lvl="1" marL="579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sto MT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Calisto MT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Calisto MT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Calisto MT"/>
              </a:rPr>
              <a:t>	</a:t>
            </a:r>
            <a:r>
              <a:rPr b="1" lang="en-US" sz="2000" spc="-1" strike="noStrike">
                <a:solidFill>
                  <a:srgbClr val="404040"/>
                </a:solidFill>
                <a:latin typeface="Calisto MT"/>
              </a:rPr>
              <a:t>F</a:t>
            </a:r>
            <a:r>
              <a:rPr b="0" lang="en-US" sz="2000" spc="-1" strike="noStrike">
                <a:solidFill>
                  <a:srgbClr val="404040"/>
                </a:solidFill>
                <a:latin typeface="Calisto MT"/>
              </a:rPr>
              <a:t>    </a:t>
            </a:r>
            <a:r>
              <a:rPr b="0" lang="en-US" sz="2000" spc="-1" strike="noStrike">
                <a:solidFill>
                  <a:srgbClr val="404040"/>
                </a:solidFill>
                <a:latin typeface="Calisto MT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Calisto MT"/>
              </a:rPr>
              <a:t>for</a:t>
            </a:r>
            <a:endParaRPr b="0" lang="en-US" sz="2000" spc="-1" strike="noStrike">
              <a:solidFill>
                <a:srgbClr val="404040"/>
              </a:solidFill>
              <a:latin typeface="Calisto MT"/>
            </a:endParaRPr>
          </a:p>
          <a:p>
            <a:pPr lvl="1" marL="579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sto MT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Calisto MT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Calisto MT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Calisto MT"/>
              </a:rPr>
              <a:t>	</a:t>
            </a:r>
            <a:r>
              <a:rPr b="1" lang="en-US" sz="2000" spc="-1" strike="noStrike">
                <a:solidFill>
                  <a:srgbClr val="404040"/>
                </a:solidFill>
                <a:latin typeface="Calisto MT"/>
              </a:rPr>
              <a:t>A</a:t>
            </a:r>
            <a:r>
              <a:rPr b="0" lang="en-US" sz="2000" spc="-1" strike="noStrike">
                <a:solidFill>
                  <a:srgbClr val="404040"/>
                </a:solidFill>
                <a:latin typeface="Calisto MT"/>
              </a:rPr>
              <a:t>   </a:t>
            </a:r>
            <a:r>
              <a:rPr b="0" lang="en-US" sz="2000" spc="-1" strike="noStrike">
                <a:solidFill>
                  <a:srgbClr val="404040"/>
                </a:solidFill>
                <a:latin typeface="Calisto MT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Calisto MT"/>
              </a:rPr>
              <a:t>and</a:t>
            </a:r>
            <a:endParaRPr b="0" lang="en-US" sz="2000" spc="-1" strike="noStrike">
              <a:solidFill>
                <a:srgbClr val="404040"/>
              </a:solidFill>
              <a:latin typeface="Calisto MT"/>
            </a:endParaRPr>
          </a:p>
          <a:p>
            <a:pPr lvl="1" marL="579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sto MT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Calisto MT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Calisto MT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Calisto MT"/>
              </a:rPr>
              <a:t>	</a:t>
            </a:r>
            <a:r>
              <a:rPr b="1" lang="en-US" sz="2000" spc="-1" strike="noStrike">
                <a:solidFill>
                  <a:srgbClr val="404040"/>
                </a:solidFill>
                <a:latin typeface="Calisto MT"/>
              </a:rPr>
              <a:t>N</a:t>
            </a:r>
            <a:r>
              <a:rPr b="0" lang="en-US" sz="2000" spc="-1" strike="noStrike">
                <a:solidFill>
                  <a:srgbClr val="404040"/>
                </a:solidFill>
                <a:latin typeface="Calisto MT"/>
              </a:rPr>
              <a:t>   </a:t>
            </a:r>
            <a:r>
              <a:rPr b="0" lang="en-US" sz="2000" spc="-1" strike="noStrike">
                <a:solidFill>
                  <a:srgbClr val="404040"/>
                </a:solidFill>
                <a:latin typeface="Calisto MT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Calisto MT"/>
              </a:rPr>
              <a:t>nor </a:t>
            </a:r>
            <a:endParaRPr b="0" lang="en-US" sz="2000" spc="-1" strike="noStrike">
              <a:solidFill>
                <a:srgbClr val="404040"/>
              </a:solidFill>
              <a:latin typeface="Calisto MT"/>
            </a:endParaRPr>
          </a:p>
          <a:p>
            <a:pPr lvl="1" marL="579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sto MT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Calisto MT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Calisto MT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Calisto MT"/>
              </a:rPr>
              <a:t>	</a:t>
            </a:r>
            <a:r>
              <a:rPr b="1" lang="en-US" sz="2000" spc="-1" strike="noStrike">
                <a:solidFill>
                  <a:srgbClr val="404040"/>
                </a:solidFill>
                <a:latin typeface="Calisto MT"/>
              </a:rPr>
              <a:t>B</a:t>
            </a:r>
            <a:r>
              <a:rPr b="0" lang="en-US" sz="2000" spc="-1" strike="noStrike">
                <a:solidFill>
                  <a:srgbClr val="404040"/>
                </a:solidFill>
                <a:latin typeface="Calisto MT"/>
              </a:rPr>
              <a:t>    </a:t>
            </a:r>
            <a:r>
              <a:rPr b="0" lang="en-US" sz="2000" spc="-1" strike="noStrike">
                <a:solidFill>
                  <a:srgbClr val="404040"/>
                </a:solidFill>
                <a:latin typeface="Calisto MT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Calisto MT"/>
              </a:rPr>
              <a:t>but </a:t>
            </a:r>
            <a:endParaRPr b="0" lang="en-US" sz="2000" spc="-1" strike="noStrike">
              <a:solidFill>
                <a:srgbClr val="404040"/>
              </a:solidFill>
              <a:latin typeface="Calisto MT"/>
            </a:endParaRPr>
          </a:p>
          <a:p>
            <a:pPr lvl="1" marL="579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sto MT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Calisto MT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Calisto MT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Calisto MT"/>
              </a:rPr>
              <a:t>	</a:t>
            </a:r>
            <a:r>
              <a:rPr b="1" lang="en-US" sz="2000" spc="-1" strike="noStrike">
                <a:solidFill>
                  <a:srgbClr val="404040"/>
                </a:solidFill>
                <a:latin typeface="Calisto MT"/>
              </a:rPr>
              <a:t>O</a:t>
            </a:r>
            <a:r>
              <a:rPr b="0" lang="en-US" sz="2000" spc="-1" strike="noStrike">
                <a:solidFill>
                  <a:srgbClr val="404040"/>
                </a:solidFill>
                <a:latin typeface="Calisto MT"/>
              </a:rPr>
              <a:t>   </a:t>
            </a:r>
            <a:r>
              <a:rPr b="0" lang="en-US" sz="2000" spc="-1" strike="noStrike">
                <a:solidFill>
                  <a:srgbClr val="404040"/>
                </a:solidFill>
                <a:latin typeface="Calisto MT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Calisto MT"/>
              </a:rPr>
              <a:t>or</a:t>
            </a:r>
            <a:endParaRPr b="0" lang="en-US" sz="2000" spc="-1" strike="noStrike">
              <a:solidFill>
                <a:srgbClr val="404040"/>
              </a:solidFill>
              <a:latin typeface="Calisto MT"/>
            </a:endParaRPr>
          </a:p>
          <a:p>
            <a:pPr lvl="1" marL="579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sto MT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Calisto MT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Calisto MT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Calisto MT"/>
              </a:rPr>
              <a:t>	</a:t>
            </a:r>
            <a:r>
              <a:rPr b="1" lang="en-US" sz="2000" spc="-1" strike="noStrike">
                <a:solidFill>
                  <a:srgbClr val="404040"/>
                </a:solidFill>
                <a:latin typeface="Calisto MT"/>
              </a:rPr>
              <a:t>Y</a:t>
            </a:r>
            <a:r>
              <a:rPr b="0" lang="en-US" sz="2000" spc="-1" strike="noStrike">
                <a:solidFill>
                  <a:srgbClr val="404040"/>
                </a:solidFill>
                <a:latin typeface="Calisto MT"/>
              </a:rPr>
              <a:t>    </a:t>
            </a:r>
            <a:r>
              <a:rPr b="0" lang="en-US" sz="2000" spc="-1" strike="noStrike">
                <a:solidFill>
                  <a:srgbClr val="404040"/>
                </a:solidFill>
                <a:latin typeface="Calisto MT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Calisto MT"/>
              </a:rPr>
              <a:t>yet </a:t>
            </a:r>
            <a:endParaRPr b="0" lang="en-US" sz="2000" spc="-1" strike="noStrike">
              <a:solidFill>
                <a:srgbClr val="404040"/>
              </a:solidFill>
              <a:latin typeface="Calisto MT"/>
            </a:endParaRPr>
          </a:p>
          <a:p>
            <a:pPr lvl="1" marL="579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sto MT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Calisto MT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Calisto MT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Calisto MT"/>
              </a:rPr>
              <a:t>	</a:t>
            </a:r>
            <a:r>
              <a:rPr b="1" lang="en-US" sz="2000" spc="-1" strike="noStrike">
                <a:solidFill>
                  <a:srgbClr val="404040"/>
                </a:solidFill>
                <a:latin typeface="Calisto MT"/>
              </a:rPr>
              <a:t>S</a:t>
            </a:r>
            <a:r>
              <a:rPr b="0" lang="en-US" sz="2000" spc="-1" strike="noStrike">
                <a:solidFill>
                  <a:srgbClr val="404040"/>
                </a:solidFill>
                <a:latin typeface="Calisto MT"/>
              </a:rPr>
              <a:t>     </a:t>
            </a:r>
            <a:r>
              <a:rPr b="0" lang="en-US" sz="2000" spc="-1" strike="noStrike">
                <a:solidFill>
                  <a:srgbClr val="404040"/>
                </a:solidFill>
                <a:latin typeface="Calisto MT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Calisto MT"/>
              </a:rPr>
              <a:t>so</a:t>
            </a:r>
            <a:endParaRPr b="0" lang="en-US" sz="2000" spc="-1" strike="noStrike">
              <a:solidFill>
                <a:srgbClr val="404040"/>
              </a:solidFill>
              <a:latin typeface="Calisto MT"/>
            </a:endParaRPr>
          </a:p>
          <a:p>
            <a:pPr lvl="1" marL="579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sto MT"/>
              </a:rPr>
              <a:t>Conjunctive Adverbs </a:t>
            </a:r>
            <a:br>
              <a:rPr sz="3200"/>
            </a:br>
            <a:r>
              <a:rPr b="0" lang="en-US" sz="3200" spc="-1" strike="noStrike">
                <a:solidFill>
                  <a:srgbClr val="404040"/>
                </a:solidFill>
                <a:latin typeface="Calisto MT"/>
              </a:rPr>
              <a:t>          and Transitional Expressions</a:t>
            </a:r>
            <a:endParaRPr b="0" lang="en-US" sz="32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56" name=""/>
          <p:cNvSpPr txBox="1"/>
          <p:nvPr/>
        </p:nvSpPr>
        <p:spPr>
          <a:xfrm>
            <a:off x="566280" y="2062080"/>
            <a:ext cx="8001000" cy="39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A </a:t>
            </a:r>
            <a:r>
              <a:rPr b="0" i="1" lang="en-US" sz="2400" spc="-1" strike="noStrike">
                <a:solidFill>
                  <a:srgbClr val="9c5238"/>
                </a:solidFill>
                <a:latin typeface="Calisto MT"/>
              </a:rPr>
              <a:t>conjunctive adverb </a:t>
            </a: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is a word that connects two independent clauses and shows the relationship between the ideas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79600" indent="-228600">
              <a:lnSpc>
                <a:spcPct val="90000"/>
              </a:lnSpc>
              <a:spcBef>
                <a:spcPts val="601"/>
              </a:spcBef>
              <a:buClr>
                <a:srgbClr val="524a82"/>
              </a:buClr>
              <a:buFont typeface="Calisto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I wanted to cash my check; </a:t>
            </a:r>
            <a:r>
              <a:rPr b="0" lang="en-US" sz="2400" spc="-1" strike="noStrike" u="sng">
                <a:solidFill>
                  <a:srgbClr val="404040"/>
                </a:solidFill>
                <a:uFillTx/>
                <a:latin typeface="Calisto MT"/>
              </a:rPr>
              <a:t>unfortunately</a:t>
            </a: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, the bank was closed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A </a:t>
            </a:r>
            <a:r>
              <a:rPr b="0" i="1" lang="en-US" sz="2400" spc="-1" strike="noStrike">
                <a:solidFill>
                  <a:srgbClr val="9c5238"/>
                </a:solidFill>
                <a:latin typeface="Calisto MT"/>
              </a:rPr>
              <a:t>transitional expression </a:t>
            </a: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is a phrase that shows that relationship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79600" indent="-228600">
              <a:spcBef>
                <a:spcPts val="601"/>
              </a:spcBef>
              <a:buClr>
                <a:srgbClr val="524a82"/>
              </a:buClr>
              <a:buFont typeface="Calisto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I could use a job; </a:t>
            </a:r>
            <a:r>
              <a:rPr b="0" lang="en-US" sz="2400" spc="-1" strike="noStrike" u="sng">
                <a:solidFill>
                  <a:srgbClr val="404040"/>
                </a:solidFill>
                <a:uFillTx/>
                <a:latin typeface="Calisto MT"/>
              </a:rPr>
              <a:t>on the other hand</a:t>
            </a: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, I like having free time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524a82"/>
              </a:buClr>
              <a:buFont typeface="Calisto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sto MT"/>
              </a:rPr>
              <a:t>Examples of Compound Sentences</a:t>
            </a:r>
            <a:endParaRPr b="0" lang="en-US" sz="32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963720" y="2168640"/>
            <a:ext cx="7611840" cy="39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524a82"/>
              </a:buClr>
              <a:buFont typeface="Calisto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04040"/>
                </a:solidFill>
                <a:uFillTx/>
                <a:latin typeface="Calisto MT"/>
              </a:rPr>
              <a:t>A comma and a coordinating conjunction</a:t>
            </a: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: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79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I like to study grammar</a:t>
            </a:r>
            <a:r>
              <a:rPr b="1" lang="en-US" sz="2400" spc="-1" strike="noStrike">
                <a:solidFill>
                  <a:srgbClr val="404040"/>
                </a:solidFill>
                <a:latin typeface="Calisto MT"/>
              </a:rPr>
              <a:t>, and </a:t>
            </a: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I love this class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524a82"/>
              </a:buClr>
              <a:buFont typeface="Calisto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04040"/>
                </a:solidFill>
                <a:uFillTx/>
                <a:latin typeface="Calisto MT"/>
              </a:rPr>
              <a:t>A semicolon</a:t>
            </a: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: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79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I like to study grammar</a:t>
            </a:r>
            <a:r>
              <a:rPr b="1" lang="en-US" sz="2400" spc="-1" strike="noStrike">
                <a:solidFill>
                  <a:srgbClr val="404040"/>
                </a:solidFill>
                <a:latin typeface="Calisto MT"/>
              </a:rPr>
              <a:t>;</a:t>
            </a: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 I love this class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524a82"/>
              </a:buClr>
              <a:buFont typeface="Calisto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04040"/>
                </a:solidFill>
                <a:uFillTx/>
                <a:latin typeface="Calisto MT"/>
              </a:rPr>
              <a:t>A semicolon and a conjunctive adverb or transitional expression</a:t>
            </a: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: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79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I like to study grammar</a:t>
            </a:r>
            <a:r>
              <a:rPr b="1" lang="en-US" sz="2400" spc="-1" strike="noStrike">
                <a:solidFill>
                  <a:srgbClr val="404040"/>
                </a:solidFill>
                <a:latin typeface="Calisto MT"/>
              </a:rPr>
              <a:t>; therefore</a:t>
            </a: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, I love this class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79600" indent="-228600">
              <a:spcBef>
                <a:spcPts val="601"/>
              </a:spcBef>
              <a:buClr>
                <a:srgbClr val="524a8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The Complex Sentence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60" name=""/>
          <p:cNvSpPr txBox="1"/>
          <p:nvPr/>
        </p:nvSpPr>
        <p:spPr>
          <a:xfrm>
            <a:off x="566280" y="2041200"/>
            <a:ext cx="8001000" cy="3978360"/>
          </a:xfrm>
          <a:prstGeom prst="rect">
            <a:avLst/>
          </a:prstGeom>
          <a:noFill/>
          <a:ln w="12600">
            <a:solidFill>
              <a:srgbClr val="8f9954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524a82"/>
              </a:buClr>
              <a:buFont typeface="Calisto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A complex sentence is a </a:t>
            </a:r>
            <a:r>
              <a:rPr b="0" lang="en-US" sz="2400" spc="-1" strike="noStrike" u="sng">
                <a:solidFill>
                  <a:srgbClr val="404040"/>
                </a:solidFill>
                <a:uFillTx/>
                <a:latin typeface="Calisto MT"/>
              </a:rPr>
              <a:t>complete</a:t>
            </a: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 thought (</a:t>
            </a:r>
            <a:r>
              <a:rPr b="0" i="1" lang="en-US" sz="2400" spc="-1" strike="noStrike">
                <a:solidFill>
                  <a:srgbClr val="404040"/>
                </a:solidFill>
                <a:latin typeface="Calisto MT"/>
              </a:rPr>
              <a:t>independent</a:t>
            </a: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 </a:t>
            </a:r>
            <a:r>
              <a:rPr b="0" i="1" lang="en-US" sz="2400" spc="-1" strike="noStrike">
                <a:solidFill>
                  <a:srgbClr val="404040"/>
                </a:solidFill>
                <a:latin typeface="Calisto MT"/>
              </a:rPr>
              <a:t>clause</a:t>
            </a: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) to which an </a:t>
            </a:r>
            <a:r>
              <a:rPr b="0" lang="en-US" sz="2400" spc="-1" strike="noStrike" u="sng">
                <a:solidFill>
                  <a:srgbClr val="404040"/>
                </a:solidFill>
                <a:uFillTx/>
                <a:latin typeface="Calisto MT"/>
              </a:rPr>
              <a:t>incomplete</a:t>
            </a: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 thought (</a:t>
            </a:r>
            <a:r>
              <a:rPr b="0" i="1" lang="en-US" sz="2400" spc="-1" strike="noStrike">
                <a:solidFill>
                  <a:srgbClr val="404040"/>
                </a:solidFill>
                <a:latin typeface="Calisto MT"/>
              </a:rPr>
              <a:t>dependent</a:t>
            </a: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 </a:t>
            </a:r>
            <a:r>
              <a:rPr b="0" i="1" lang="en-US" sz="2400" spc="-1" strike="noStrike">
                <a:solidFill>
                  <a:srgbClr val="404040"/>
                </a:solidFill>
                <a:latin typeface="Calisto MT"/>
              </a:rPr>
              <a:t>clause</a:t>
            </a: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) has been added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524a82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A coordinating conjunction joins the </a:t>
            </a:r>
            <a:r>
              <a:rPr b="0" i="1" lang="en-US" sz="2400" spc="-1" strike="noStrike">
                <a:solidFill>
                  <a:srgbClr val="404040"/>
                </a:solidFill>
                <a:latin typeface="Calisto MT"/>
              </a:rPr>
              <a:t>dependent claus</a:t>
            </a: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e to the </a:t>
            </a:r>
            <a:r>
              <a:rPr b="0" i="1" lang="en-US" sz="2400" spc="-1" strike="noStrike">
                <a:solidFill>
                  <a:srgbClr val="404040"/>
                </a:solidFill>
                <a:latin typeface="Calisto MT"/>
              </a:rPr>
              <a:t>independent clause</a:t>
            </a: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524a82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sto MT"/>
            </a:endParaRPr>
          </a:p>
          <a:p>
            <a:pPr lvl="1" marL="579600" indent="-228600">
              <a:spcBef>
                <a:spcPts val="601"/>
              </a:spcBef>
              <a:buClr>
                <a:srgbClr val="524a82"/>
              </a:buClr>
              <a:buFont typeface="Calisto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Because I like to study grammar, I love this class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79600" indent="-228600">
              <a:spcBef>
                <a:spcPts val="601"/>
              </a:spcBef>
              <a:buClr>
                <a:srgbClr val="524a82"/>
              </a:buClr>
              <a:buFont typeface="Calisto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I love this class because I like to study grammar</a:t>
            </a:r>
            <a:r>
              <a:rPr b="1" lang="en-US" sz="2400" spc="-1" strike="noStrike">
                <a:solidFill>
                  <a:srgbClr val="404040"/>
                </a:solidFill>
                <a:latin typeface="Calisto MT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524a8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9T16:13:48Z</dcterms:created>
  <dc:creator>KISD</dc:creator>
  <dc:description/>
  <dc:language>en-US</dc:language>
  <cp:lastModifiedBy>KISD</cp:lastModifiedBy>
  <dcterms:modified xsi:type="dcterms:W3CDTF">2011-03-29T16:27:53Z</dcterms:modified>
  <cp:revision>2</cp:revision>
  <dc:subject/>
  <dc:title>Writing Complex Sentences</dc:title>
</cp:coreProperties>
</file>